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5399-E968-48C3-9DBC-032400B2A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7583-DA23-42BD-A2B7-C72320A0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7B11-64F0-40BA-8D76-06B4BC53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EEE5-1E77-4550-B73B-F2D63DF7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629C-BC83-4448-9157-2E9057A5A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1921-D05F-4650-BC8B-34D2ED2C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07DB-6522-47BF-8B7C-96DA0DB8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A6C6-5265-44F9-9E50-0DBEE63A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56FD-C3BA-468D-92DC-3CC66C1A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451B-1F02-4FB6-9672-0B514AFD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E53A-0247-4B85-8A86-1EBDBD9B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8884-B481-494E-A209-CD4AD87D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06E9-FBF2-42BC-9F40-646937CD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79AF-63E9-482B-AD50-ACF20C6FFEE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45721" r="0" b="0"/>
          <a:stretch/>
        </p:blipFill>
        <p:spPr>
          <a:xfrm>
            <a:off x="2362320" y="4343400"/>
            <a:ext cx="41148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1141" t="0" r="0" b="0"/>
          <a:stretch/>
        </p:blipFill>
        <p:spPr>
          <a:xfrm>
            <a:off x="5029200" y="1981080"/>
            <a:ext cx="36115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7-08-02T19:09:28Z</dcterms:modified>
  <cp:revision>30</cp:revision>
  <dc:subject/>
  <dc:title>Descriptive Writing</dc:title>
</cp:coreProperties>
</file>